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1F17-981B-412B-A89D-74A0A557A4A8}"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
        <p:nvSpPr>
          <p:cNvPr id="100" name="Dian numeron paikkamerkki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8AAE-D1AC-496E-BF47-8A5632AE1122}"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6E7BC-87B1-400A-81BF-641361662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A234A-BAEC-4DDD-B2E3-9DB05AA9B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718E8-DECE-43AF-B2DF-CDB7EDAE8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9DCC1-9406-477B-8CE2-BF6435E5D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C2655-A4A0-47BA-A492-32CBFF8C7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BD38A-B8D1-4190-8F7C-CAD83C82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B2D32-355B-49F0-AFB6-8AAF07A5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77390-5709-4E00-A681-27B2639D4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E22F8-7316-4C94-98B5-93EC8C588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CE571-25D8-406A-906E-7A13D18E0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C089E-57D5-4CBF-97D3-E0715D506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F48BB-ABCF-4E13-A40B-EC5A79EA5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74B9-86A7-48AA-BC0B-44CF37D8183B}" type="slidenum">
              <a:rPr b="0" lang="fi-F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quest.umi.com/pqdlink?did=750777791&amp;sid=1&amp;Fmt=6&amp;clientId=23398&amp;RQT=309&amp;VName=PQ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Suorakulmio 4"/>
          <p:cNvSpPr/>
          <p:nvPr/>
        </p:nvSpPr>
        <p:spPr>
          <a:xfrm>
            <a:off x="324000" y="1052640"/>
            <a:ext cx="2592360" cy="5472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uorakulmio 7"/>
          <p:cNvSpPr/>
          <p:nvPr/>
        </p:nvSpPr>
        <p:spPr>
          <a:xfrm>
            <a:off x="3276720" y="907920"/>
            <a:ext cx="2665440" cy="564372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Suorakulmio 8"/>
          <p:cNvSpPr/>
          <p:nvPr/>
        </p:nvSpPr>
        <p:spPr>
          <a:xfrm>
            <a:off x="6372360" y="981000"/>
            <a:ext cx="2604960" cy="479592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uorakulmio 9"/>
          <p:cNvSpPr/>
          <p:nvPr/>
        </p:nvSpPr>
        <p:spPr>
          <a:xfrm>
            <a:off x="324000" y="90792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danto</a:t>
            </a:r>
            <a:endParaRPr b="0" lang="en-US" sz="1000" spc="-1" strike="noStrike">
              <a:solidFill>
                <a:srgbClr val="000000"/>
              </a:solidFill>
              <a:latin typeface="Arial"/>
            </a:endParaRPr>
          </a:p>
        </p:txBody>
      </p:sp>
      <p:sp>
        <p:nvSpPr>
          <p:cNvPr id="52" name="Tekstikehys 10"/>
          <p:cNvSpPr/>
          <p:nvPr/>
        </p:nvSpPr>
        <p:spPr>
          <a:xfrm>
            <a:off x="1657440" y="115920"/>
            <a:ext cx="60541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Esimiehen tai projektipäällikön tuki asiantuntijan motivaatio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Sirpa Erkkilä-Häkkinen, Tari Koskela, Kristiina Simojoki ja Marja Varis</a:t>
            </a:r>
            <a:endParaRPr b="0" lang="en-US" sz="800" spc="-1" strike="noStrike">
              <a:solidFill>
                <a:srgbClr val="000000"/>
              </a:solidFill>
              <a:latin typeface="Arial"/>
            </a:endParaRPr>
          </a:p>
        </p:txBody>
      </p:sp>
      <p:sp>
        <p:nvSpPr>
          <p:cNvPr id="53" name="Tekstikehys 11"/>
          <p:cNvSpPr/>
          <p:nvPr/>
        </p:nvSpPr>
        <p:spPr>
          <a:xfrm>
            <a:off x="395280" y="1125360"/>
            <a:ext cx="2521080" cy="396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n tavoitteena oli selvittää, miten esimies tai työnjohtoroolissa toimiva projektipäällikkö voi tukea projektityötä tekevän asiantuntijan työmotivaatiota. Työn tarkastelun kontekstina on projektimaisesti toimiva asiantuntijaorganisaatio, jonka asiakkaille tuottama lisäarvo perustuu organisaation erikoistumisalueilla tekemään jatkuvasti kehittyvään ongelmanratkaisutyöhön. Kohdeorganisaation menestymisen edellytyksenä on kehittyvä asiantuntijuus, joka vaatii erikoistunutta tietämystä ja toiminta-alueen ymmärrystä, mutta myös motivaatiota suorituksen jatkuvaan parantamiseen ja yhä haastavampien ongelmien ratkaisemis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Ryhmän työskentely perustui asiantuntijaryhmän yhteisölliseen ongelmanratkaisu-menetelmään, jonka teoreettisena taustana toimii ajankohtainen motivaatiotutkimus.</a:t>
            </a:r>
            <a:br>
              <a:rPr sz="500"/>
            </a:b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utkimuskysymyksenä oli: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en projektipäällikkö tai lähiesimies voi tukea asiantuntijan motivaatiot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llaisista tekijöistä asiantuntijan työmotivaatio muodostuu?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Mitkä tekijät pitävät asiantuntijan motivaatiota yll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Motivaatio</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Työmotivaatio on yksi motivaation muoto. Motivaation voidaan määritellä tarkoittavan seuraavia asioit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Sisäisiä voimia, jotka saavat ihmiset toimimaan tietyllä tavall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Suuntaa, joka saa ihmiset toimimaan tiettyjen tavoitteid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suuntaisesti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Toiminnan ylläpitoa eli niitä tekijöitä yksilössä ja ympäristössä, jotka joko vahvistavat</a:t>
            </a:r>
            <a:br>
              <a:rPr sz="500"/>
            </a:br>
            <a:r>
              <a:rPr b="0" lang="fi-FI" sz="500" spc="-1" strike="noStrike">
                <a:solidFill>
                  <a:srgbClr val="000000"/>
                </a:solidFill>
                <a:latin typeface="Calibri"/>
              </a:rPr>
              <a:t>            nykyistä toimintaa tai suuntaavat sen uudelle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fi-FI" sz="500" spc="-1" strike="noStrike">
                <a:solidFill>
                  <a:srgbClr val="000000"/>
                </a:solidFill>
                <a:latin typeface="Calibri"/>
              </a:rPr>
              <a:t>Näihin motivaation elementteihin vaikuttavat voimakkaasti yksilölliset tiedolliset taustat; taidot ja tiedot sekä emootiot, jotka ohjaavat yksilön kiinnostusta sekä toiminnan orientaatiota eri tilanteissa. Motivaatio voi olla taustaltaan sisäsyntyistä, jolloin toiminta on tekijälleen itsessään palkitsevaa tai ulkosyntyistä, jolloin toimintaa tehdään sen seurauksina odotettavien palkkioiden vuoksi. </a:t>
            </a:r>
            <a:br>
              <a:rPr sz="500"/>
            </a:br>
            <a:br>
              <a:rPr sz="500"/>
            </a:br>
            <a:r>
              <a:rPr b="0" lang="fi-FI" sz="500" spc="-1" strike="noStrike">
                <a:solidFill>
                  <a:srgbClr val="000000"/>
                </a:solidFill>
                <a:latin typeface="Calibri"/>
              </a:rPr>
              <a:t>Ihmiset motivoituvat elämänsä eri vaiheissa erilaisista asioista ja myös työmotivaation sisältö ja intensiteetti voi muuttua työuran eri vaiheissa. Työmotivaatiossa voidaan nähdä olevan kysymyksessä laajoista  motivaatioverkostoista, jotka sisältävät ulkoiset eli helposti tunnistettavia ja sisäisiä eli osittain tiedostamattomia ja tunneperäisiä elementtejä. Rahallinen palkitseminen on vain yksi työkalu asiantuntijan motivaation tukemiseen. </a:t>
            </a:r>
            <a:br>
              <a:rPr sz="500"/>
            </a:br>
            <a:br>
              <a:rPr sz="500"/>
            </a:br>
            <a:r>
              <a:rPr b="0" lang="fi-FI" sz="500" spc="-1" strike="noStrike">
                <a:solidFill>
                  <a:srgbClr val="000000"/>
                </a:solidFill>
                <a:latin typeface="Calibri"/>
              </a:rPr>
              <a:t>Asiantuntijaorganisaatioissa esimiehen ja projektipäällikön keskeisenä tehtävänä on saada sovittuja tuloksia aikaan yhdessä tiiminsä kanssa, tiimin jäseniä kannustaen. Oman tehtävänsä vuoksi esimiehen on hyvä oppia tunnistamaan ne asiat, jotka vaikuttavat asiantuntijan motivaatioon. Valmentava esimies osaa huomioida asiantuntijan motivaatiotilan hänen kykyjensä ohella ja johtaa asiantuntijaa tehtävässä tämän ymmärryksen mukaisesti (Kuva 1).</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ereiter &amp; Scardamalia, 1993; Bauer et al.,2007; Luoma et al., 2004; Nurmi &amp; Salmela-Aro, 2002; Vartiainen &amp; Nurmela, 2002)</a:t>
            </a:r>
            <a:endParaRPr b="0" lang="en-US" sz="500" spc="-1" strike="noStrike">
              <a:solidFill>
                <a:srgbClr val="000000"/>
              </a:solidFill>
              <a:latin typeface="Arial"/>
            </a:endParaRPr>
          </a:p>
        </p:txBody>
      </p:sp>
      <p:grpSp>
        <p:nvGrpSpPr>
          <p:cNvPr id="54" name="Ryhmä 70"/>
          <p:cNvGrpSpPr/>
          <p:nvPr/>
        </p:nvGrpSpPr>
        <p:grpSpPr>
          <a:xfrm>
            <a:off x="3564000" y="981000"/>
            <a:ext cx="2087640" cy="1542600"/>
            <a:chOff x="3564000" y="981000"/>
            <a:chExt cx="2087640" cy="1542600"/>
          </a:xfrm>
        </p:grpSpPr>
        <p:grpSp>
          <p:nvGrpSpPr>
            <p:cNvPr id="55" name="Ryhmä 12"/>
            <p:cNvGrpSpPr/>
            <p:nvPr/>
          </p:nvGrpSpPr>
          <p:grpSpPr>
            <a:xfrm>
              <a:off x="3913560" y="1178640"/>
              <a:ext cx="1325520" cy="1111320"/>
              <a:chOff x="3913560" y="1178640"/>
              <a:chExt cx="1325520" cy="1111320"/>
            </a:xfrm>
          </p:grpSpPr>
          <p:sp>
            <p:nvSpPr>
              <p:cNvPr id="56" name="Ellipsi 13"/>
              <p:cNvSpPr/>
              <p:nvPr/>
            </p:nvSpPr>
            <p:spPr>
              <a:xfrm>
                <a:off x="3913560" y="117864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Kom-petenssi</a:t>
                </a:r>
                <a:endParaRPr b="0" lang="en-US" sz="700" spc="-1" strike="noStrike">
                  <a:solidFill>
                    <a:srgbClr val="000000"/>
                  </a:solidFill>
                  <a:latin typeface="Arial"/>
                </a:endParaRPr>
              </a:p>
            </p:txBody>
          </p:sp>
          <p:sp>
            <p:nvSpPr>
              <p:cNvPr id="57" name="Ellipsi 14"/>
              <p:cNvSpPr/>
              <p:nvPr/>
            </p:nvSpPr>
            <p:spPr>
              <a:xfrm>
                <a:off x="4510440" y="124380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Auto-nomia</a:t>
                </a:r>
                <a:endParaRPr b="0" lang="en-US" sz="700" spc="-1" strike="noStrike">
                  <a:solidFill>
                    <a:srgbClr val="000000"/>
                  </a:solidFill>
                  <a:latin typeface="Arial"/>
                </a:endParaRPr>
              </a:p>
            </p:txBody>
          </p:sp>
          <p:sp>
            <p:nvSpPr>
              <p:cNvPr id="58" name="Ellipsi 15"/>
              <p:cNvSpPr/>
              <p:nvPr/>
            </p:nvSpPr>
            <p:spPr>
              <a:xfrm>
                <a:off x="4178520" y="1636560"/>
                <a:ext cx="728640" cy="6534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700" spc="-1" strike="noStrike">
                    <a:solidFill>
                      <a:srgbClr val="17375e"/>
                    </a:solidFill>
                    <a:latin typeface="Calibri"/>
                  </a:rPr>
                  <a:t>Yhteisöl-lisyys</a:t>
                </a:r>
                <a:endParaRPr b="0" lang="en-US" sz="700" spc="-1" strike="noStrike">
                  <a:solidFill>
                    <a:srgbClr val="000000"/>
                  </a:solidFill>
                  <a:latin typeface="Arial"/>
                </a:endParaRPr>
              </a:p>
            </p:txBody>
          </p:sp>
        </p:grpSp>
        <p:sp>
          <p:nvSpPr>
            <p:cNvPr id="59" name="Tekstikehys 16"/>
            <p:cNvSpPr/>
            <p:nvPr/>
          </p:nvSpPr>
          <p:spPr>
            <a:xfrm>
              <a:off x="3564000" y="2277720"/>
              <a:ext cx="208764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2</a:t>
              </a:r>
              <a:r>
                <a:rPr b="0" lang="fi-FI" sz="500" spc="-1" strike="noStrike">
                  <a:solidFill>
                    <a:srgbClr val="000000"/>
                  </a:solidFill>
                  <a:latin typeface="Calibri"/>
                </a:rPr>
                <a:t>. Asiantuntijan motivaatio koostuu kompetenssista, autonomiasta sekä yhteisöllisyydestä.</a:t>
              </a:r>
              <a:endParaRPr b="0" lang="en-US" sz="500" spc="-1" strike="noStrike">
                <a:solidFill>
                  <a:srgbClr val="000000"/>
                </a:solidFill>
                <a:latin typeface="Arial"/>
              </a:endParaRPr>
            </a:p>
          </p:txBody>
        </p:sp>
        <p:sp>
          <p:nvSpPr>
            <p:cNvPr id="60" name="Tekstikehys 43"/>
            <p:cNvSpPr/>
            <p:nvPr/>
          </p:nvSpPr>
          <p:spPr>
            <a:xfrm>
              <a:off x="3738240" y="981000"/>
              <a:ext cx="1454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Calibri"/>
                </a:rPr>
                <a:t>Asiantuntijan motivaatiotekijät</a:t>
              </a:r>
              <a:endParaRPr b="0" lang="en-US" sz="800" spc="-1" strike="noStrike">
                <a:solidFill>
                  <a:srgbClr val="000000"/>
                </a:solidFill>
                <a:latin typeface="Arial"/>
              </a:endParaRPr>
            </a:p>
          </p:txBody>
        </p:sp>
      </p:grpSp>
      <p:sp>
        <p:nvSpPr>
          <p:cNvPr id="61" name="Suorakulmio 47"/>
          <p:cNvSpPr/>
          <p:nvPr/>
        </p:nvSpPr>
        <p:spPr>
          <a:xfrm>
            <a:off x="6372360" y="5661000"/>
            <a:ext cx="2592360" cy="14436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Lähteet</a:t>
            </a:r>
            <a:endParaRPr b="0" lang="en-US" sz="1000" spc="-1" strike="noStrike">
              <a:solidFill>
                <a:srgbClr val="000000"/>
              </a:solidFill>
              <a:latin typeface="Arial"/>
            </a:endParaRPr>
          </a:p>
        </p:txBody>
      </p:sp>
      <p:sp>
        <p:nvSpPr>
          <p:cNvPr id="62" name="Tekstikehys 63"/>
          <p:cNvSpPr/>
          <p:nvPr/>
        </p:nvSpPr>
        <p:spPr>
          <a:xfrm>
            <a:off x="6372360" y="5805360"/>
            <a:ext cx="24289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Bauer, J., Rehrl, M., &amp; Harteis, C.(2007).Measurement of learning culture: A motivational approach. In H. Gruber &amp; T. Palonen (Eds.), Learning in the workplace – new developments (pp. 21- 50). Finnish Educational Research Association. Turku: Painosalama</a:t>
            </a:r>
            <a:br>
              <a:rPr sz="300"/>
            </a:br>
            <a:r>
              <a:rPr b="0" lang="fi-FI" sz="300" spc="-1" strike="noStrike">
                <a:solidFill>
                  <a:srgbClr val="000000"/>
                </a:solidFill>
                <a:latin typeface="Calibri"/>
              </a:rPr>
              <a:t>        Kaplan, R.S. &amp; Norton, D.P. (1996). The Balanced Scorecard. Harward Business School Press: </a:t>
            </a:r>
            <a:br>
              <a:rPr sz="300"/>
            </a:br>
            <a:r>
              <a:rPr b="0" lang="fi-FI" sz="300" spc="-1" strike="noStrike">
                <a:solidFill>
                  <a:srgbClr val="000000"/>
                </a:solidFill>
                <a:latin typeface="Calibri"/>
              </a:rPr>
              <a:t>        Luoma, K., Troberg, E., Kaajas, S. ja Nordlund, H. (2004). Ei ainoastaan rahasta - osaamisen kokonaispalkitseminen. Vammala: Kustannusosakeyhtiö Tammi Oy.</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Rynes, S. L., Gerhart, B. &amp; Minette, K. A. (2004). The importance of pay in employee motivation: Discrepancies between what people say and what they do. Human Resource Management, Winter 2004, Vol.43(4), 381-394.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u="sng">
                <a:solidFill>
                  <a:srgbClr val="0000ff"/>
                </a:solidFill>
                <a:uFillTx/>
                <a:latin typeface="Calibri"/>
                <a:hlinkClick r:id="rId1"/>
              </a:rPr>
              <a:t>http://proquest.umi.com/pqdlink?did=750777791&amp;sid=1&amp;Fmt=6&amp;clientId=23398&amp;RQT=309&amp;VName=PQD</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Salas, E., Rosen, M.A., Burke, C. S., Goodwin, G.F. &amp; Fiore, S. M.(2006) The making of a dream team: when expert teams do best. Teoksessa K. A. Ericsson, N. Charness, P.J. Feltovich, &amp; R.R. Hoffman. (Toim.), The Cambridge handbook of expertise and expert performance, 439-453. </a:t>
            </a:r>
            <a:r>
              <a:rPr b="0" lang="en-US" sz="300" spc="-1" strike="noStrike">
                <a:solidFill>
                  <a:srgbClr val="000000"/>
                </a:solidFill>
                <a:latin typeface="Calibri"/>
              </a:rPr>
              <a:t>New York: Cambricge University Press</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Vartiainen, M. &amp; Nurmela, K., (2002). Tavoitteet ja tulkinnat – motivaatio ja palkitseminen työelämässä. Teoksessa Salmela-Aro, K. &amp; Nurmi, J. E. (toim.) Mikä meitä liikuttaa? Modernin motivaatiopsykolgian perusteet. s. 188-210. PS Kustannus: Jyväskylä</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 spc="-1" strike="noStrike">
                <a:solidFill>
                  <a:srgbClr val="000000"/>
                </a:solidFill>
                <a:latin typeface="Calibri"/>
              </a:rPr>
              <a:t>       </a:t>
            </a:r>
            <a:r>
              <a:rPr b="0" lang="fi-FI" sz="300" spc="-1" strike="noStrike">
                <a:solidFill>
                  <a:srgbClr val="000000"/>
                </a:solidFill>
                <a:latin typeface="Calibri"/>
              </a:rPr>
              <a:t>Wiskari, J.(2009). Totuuden hetki - esimiestyö palveluympäristössä. Helsinki: Talentum.</a:t>
            </a:r>
            <a:endParaRPr b="0" lang="en-US" sz="300" spc="-1" strike="noStrike">
              <a:solidFill>
                <a:srgbClr val="000000"/>
              </a:solidFill>
              <a:latin typeface="Arial"/>
            </a:endParaRPr>
          </a:p>
        </p:txBody>
      </p:sp>
      <p:sp>
        <p:nvSpPr>
          <p:cNvPr id="63" name="Tekstikehys 42"/>
          <p:cNvSpPr/>
          <p:nvPr/>
        </p:nvSpPr>
        <p:spPr>
          <a:xfrm>
            <a:off x="539640" y="6165720"/>
            <a:ext cx="221472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1.</a:t>
            </a:r>
            <a:r>
              <a:rPr b="0" lang="fi-FI" sz="500" spc="-1" strike="noStrike">
                <a:solidFill>
                  <a:srgbClr val="000000"/>
                </a:solidFill>
                <a:latin typeface="Calibri"/>
              </a:rPr>
              <a:t> Valmentava esimies tuntee alaisensa tarpeet ja osaa auttaa asiantuntijaa niin, että hän on valmis delegoituihin tehtäviin. (Wiskari, 2009) </a:t>
            </a:r>
            <a:endParaRPr b="0" lang="en-US" sz="500" spc="-1" strike="noStrike">
              <a:solidFill>
                <a:srgbClr val="000000"/>
              </a:solidFill>
              <a:latin typeface="Arial"/>
            </a:endParaRPr>
          </a:p>
        </p:txBody>
      </p:sp>
      <p:sp>
        <p:nvSpPr>
          <p:cNvPr id="64" name="Tekstikehys 42"/>
          <p:cNvSpPr/>
          <p:nvPr/>
        </p:nvSpPr>
        <p:spPr>
          <a:xfrm>
            <a:off x="6516720" y="5373720"/>
            <a:ext cx="2376360" cy="3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Kuva 3. </a:t>
            </a:r>
            <a:r>
              <a:rPr b="0" lang="fi-FI" sz="500" spc="-1" strike="noStrike">
                <a:solidFill>
                  <a:srgbClr val="000000"/>
                </a:solidFill>
                <a:latin typeface="Calibri"/>
              </a:rPr>
              <a:t>Motivaation rakentumisessa on tärkeää, että asiantuntija saa oikea-aikaista palautetta,  häntä palkitaan onnistumisesta ja häntä arvostetaan ja häneen luotetaan  sekä osoitetaan aitoa kiinnostusta häntä ja hänen työtään kohtaan.  </a:t>
            </a:r>
            <a:endParaRPr b="0" lang="en-US" sz="500" spc="-1" strike="noStrike">
              <a:solidFill>
                <a:srgbClr val="000000"/>
              </a:solidFill>
              <a:latin typeface="Arial"/>
            </a:endParaRPr>
          </a:p>
        </p:txBody>
      </p:sp>
      <p:sp>
        <p:nvSpPr>
          <p:cNvPr id="65" name="Suorakulmio 59"/>
          <p:cNvSpPr/>
          <p:nvPr/>
        </p:nvSpPr>
        <p:spPr>
          <a:xfrm>
            <a:off x="3348000" y="2852640"/>
            <a:ext cx="251928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rganisaation menestymiseen vaikuttaa muun muassa työntekijöiden sekä organisaation oppiminen ja osaamisen kasvu. Tiedollinen ja taidollinen asiantuntijuus ei yksinään lisää organisaation menestystä. Menestykseen tarvitaan lisäksi työstään motivoituneita henkilöitä, joilla on työssään riittävästi toiminta- ja päätöksentekovapautta. Tällainen myönteinen, työntekijöille vapautta ja vastuuta antava ilmapiiri edistää työntekijöiden motivaatiota ja aloitteellisuutta. Itsenäisen työn vastapainoksi työntekijät tarvitsevat nopeaa ja oikea-aikaista palautetta tekemästään työstä ja sen tuloksista oli työn tuotoksena sitten tuote tai palvelu. Vain tällaisen palautteen avulla työntekijät pystyvät parantamaan suorituksiaan ja eliminoimaan virheitään, mikä lisää työn tuottavuutt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Sisäisen motivaation syntymiseen ja asiantuntijan motivaation vaaditaan (Kuva 2):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kompetenssin (tunne kyvystä suoriutua tehtävistä ja onnistumisen kokemuksista),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autonomian (itsenäisyys ja itsemääräämisoikeus) sekä </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yhteisöllisyyden tunnetta (yhteys toisiin ihmisiin ja ryhmään kuulumista).</a:t>
            </a: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elkkä raha ei riitä työntekijöiden motivoitumisen perustaksi, vaan erityisesti osaajia motivoi työ, palautteellisuus ja merkityksellisyyden kokeminen organisaatiossa, oppiminen ja haastavat saavutukset. Ollakseen mahdollisimman motivoivia työtehtävien tulisi olla riittävän kompleksisia, kokonaisvaltaisia ja tarjota riittävästi vapautta  sekä mahdollisuutta työskennellä ryhmässä tai ryhmänä, jotta  työtehtävä tukisi parhaalla mahdollisella tavalla työntekijän itsenäisyyttä, kompetenssin tunteita ja  tarvetta yhteisöllisyyteen. </a:t>
            </a:r>
            <a:br>
              <a:rPr sz="500"/>
            </a:b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Esimiehen rooli on tärkeä palkitsemisen toteuttajana. Hänen tulisi tunnistaa alaistensa erilaiset motivaattorit sekä tiedostaa oma roolinsa merkityksellisyyden kokemises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Palkitsemiseen liittyy yksilön omakohtainen kokemus siitä, miten palkitsevaa palkitseminen on.  Palkitsemisen kokonaisuus sisältä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1. Aineellinen palkitseminen (palkka ja palkkio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2. välillinen aineellinen palkitseminen (koulutus, urakehitys) ja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    </a:t>
            </a:r>
            <a:r>
              <a:rPr b="0" lang="fi-FI" sz="500" spc="-1" strike="noStrike">
                <a:solidFill>
                  <a:srgbClr val="000000"/>
                </a:solidFill>
                <a:latin typeface="Calibri"/>
              </a:rPr>
              <a:t>3. aineeton palkitseminen (työstä saatu kiitos ja palaut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Aineellinen palkitseminen ei tutkimusten mukaan toimi pitkäkestoisena motivaation lähteenä, mutta se voi olla tyytymättömyyden syy. Palkan vaikutus työtyytyväisyydelle on tärkeämpi uran alkuvaiheessa, myöhemmin sen vaikutus vähenee. Erikoispalkkiot yms. ovat nopeita palkitsemismuotoja, osaamisen kehittämiseen liittyvät koulutus- ja valmennusohjelmat puolestaan hitaita palkitsemismuotoja. Palkka on kuitenkin voimakas motivaattori. Ihmisillä on tapana aliarvioida palkan merkitystä työmotivaatioonsa.</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Bauer, Rehrl &amp; Harteis, 2007; Kaplan &amp; Norton 1996; Luoma et al., 2004; Rynesin et al., 2004) </a:t>
            </a:r>
            <a:endParaRPr b="0" lang="en-US" sz="500" spc="-1" strike="noStrike">
              <a:solidFill>
                <a:srgbClr val="000000"/>
              </a:solidFill>
              <a:latin typeface="Arial"/>
            </a:endParaRPr>
          </a:p>
        </p:txBody>
      </p:sp>
      <p:sp>
        <p:nvSpPr>
          <p:cNvPr id="66" name="Suorakulmio 78"/>
          <p:cNvSpPr/>
          <p:nvPr/>
        </p:nvSpPr>
        <p:spPr>
          <a:xfrm>
            <a:off x="3276720" y="2565360"/>
            <a:ext cx="2665440" cy="14436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Motivaation merkitys työssä</a:t>
            </a:r>
            <a:endParaRPr b="0" lang="en-US" sz="1000" spc="-1" strike="noStrike">
              <a:solidFill>
                <a:srgbClr val="000000"/>
              </a:solidFill>
              <a:latin typeface="Arial"/>
            </a:endParaRPr>
          </a:p>
        </p:txBody>
      </p:sp>
      <p:sp>
        <p:nvSpPr>
          <p:cNvPr id="67" name="Suorakulmio 102"/>
          <p:cNvSpPr/>
          <p:nvPr/>
        </p:nvSpPr>
        <p:spPr>
          <a:xfrm>
            <a:off x="6875640" y="4361040"/>
            <a:ext cx="28548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uorakulmio 103"/>
          <p:cNvSpPr/>
          <p:nvPr/>
        </p:nvSpPr>
        <p:spPr>
          <a:xfrm>
            <a:off x="6877080" y="5013360"/>
            <a:ext cx="1357200" cy="285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Motivaatiotekijöiden tunteminen</a:t>
            </a:r>
            <a:endParaRPr b="0" lang="en-US" sz="800" spc="-1" strike="noStrike">
              <a:solidFill>
                <a:srgbClr val="000000"/>
              </a:solidFill>
              <a:latin typeface="Arial"/>
            </a:endParaRPr>
          </a:p>
        </p:txBody>
      </p:sp>
      <p:sp>
        <p:nvSpPr>
          <p:cNvPr id="69" name="Suorakulmio 104"/>
          <p:cNvSpPr/>
          <p:nvPr/>
        </p:nvSpPr>
        <p:spPr>
          <a:xfrm>
            <a:off x="7232760" y="4361040"/>
            <a:ext cx="28548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Suorakulmio 105"/>
          <p:cNvSpPr/>
          <p:nvPr/>
        </p:nvSpPr>
        <p:spPr>
          <a:xfrm>
            <a:off x="7589880" y="4361040"/>
            <a:ext cx="28584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Suorakulmio 106"/>
          <p:cNvSpPr/>
          <p:nvPr/>
        </p:nvSpPr>
        <p:spPr>
          <a:xfrm>
            <a:off x="7947000" y="4361040"/>
            <a:ext cx="285840" cy="653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kstikehys 29"/>
          <p:cNvSpPr/>
          <p:nvPr/>
        </p:nvSpPr>
        <p:spPr>
          <a:xfrm>
            <a:off x="6804000" y="4432320"/>
            <a:ext cx="428760" cy="4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Osallist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ja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altuuta       -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delegoi</a:t>
            </a:r>
            <a:endParaRPr b="0" lang="en-US" sz="500" spc="-1" strike="noStrike">
              <a:solidFill>
                <a:srgbClr val="000000"/>
              </a:solidFill>
              <a:latin typeface="Arial"/>
            </a:endParaRPr>
          </a:p>
        </p:txBody>
      </p:sp>
      <p:sp>
        <p:nvSpPr>
          <p:cNvPr id="73" name="Tekstikehys 30"/>
          <p:cNvSpPr/>
          <p:nvPr/>
        </p:nvSpPr>
        <p:spPr>
          <a:xfrm>
            <a:off x="7161120" y="4432320"/>
            <a:ext cx="42876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Ylläpidä yhteisölli-syyttä</a:t>
            </a:r>
            <a:endParaRPr b="0" lang="en-US" sz="500" spc="-1" strike="noStrike">
              <a:solidFill>
                <a:srgbClr val="000000"/>
              </a:solidFill>
              <a:latin typeface="Arial"/>
            </a:endParaRPr>
          </a:p>
        </p:txBody>
      </p:sp>
      <p:sp>
        <p:nvSpPr>
          <p:cNvPr id="74" name="Tekstikehys 31"/>
          <p:cNvSpPr/>
          <p:nvPr/>
        </p:nvSpPr>
        <p:spPr>
          <a:xfrm>
            <a:off x="7518240" y="4432320"/>
            <a:ext cx="42876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Luo haasteita</a:t>
            </a:r>
            <a:endParaRPr b="0" lang="en-US" sz="500" spc="-1" strike="noStrike">
              <a:solidFill>
                <a:srgbClr val="000000"/>
              </a:solidFill>
              <a:latin typeface="Arial"/>
            </a:endParaRPr>
          </a:p>
        </p:txBody>
      </p:sp>
      <p:sp>
        <p:nvSpPr>
          <p:cNvPr id="75" name="Tekstikehys 32"/>
          <p:cNvSpPr/>
          <p:nvPr/>
        </p:nvSpPr>
        <p:spPr>
          <a:xfrm>
            <a:off x="7875720" y="4432320"/>
            <a:ext cx="428400" cy="3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Huomioi ja palkitse</a:t>
            </a:r>
            <a:endParaRPr b="0" lang="en-US" sz="500" spc="-1" strike="noStrike">
              <a:solidFill>
                <a:srgbClr val="000000"/>
              </a:solidFill>
              <a:latin typeface="Arial"/>
            </a:endParaRPr>
          </a:p>
        </p:txBody>
      </p:sp>
      <p:sp>
        <p:nvSpPr>
          <p:cNvPr id="76" name="Tasakylkinen kolmio 111"/>
          <p:cNvSpPr/>
          <p:nvPr/>
        </p:nvSpPr>
        <p:spPr>
          <a:xfrm>
            <a:off x="6875640" y="3862440"/>
            <a:ext cx="1357200" cy="214200"/>
          </a:xfrm>
          <a:prstGeom prst="triangle">
            <a:avLst>
              <a:gd name="adj" fmla="val 49574"/>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600" spc="-1" strike="noStrike">
                <a:solidFill>
                  <a:srgbClr val="ffffff"/>
                </a:solidFill>
                <a:latin typeface="Calibri"/>
              </a:rPr>
              <a:t>Viikkopalaverit</a:t>
            </a:r>
            <a:endParaRPr b="0" lang="en-US" sz="600" spc="-1" strike="noStrike">
              <a:solidFill>
                <a:srgbClr val="000000"/>
              </a:solidFill>
              <a:latin typeface="Arial"/>
            </a:endParaRPr>
          </a:p>
        </p:txBody>
      </p:sp>
      <p:sp>
        <p:nvSpPr>
          <p:cNvPr id="77" name="Suorakulmio 112"/>
          <p:cNvSpPr/>
          <p:nvPr/>
        </p:nvSpPr>
        <p:spPr>
          <a:xfrm>
            <a:off x="6875640" y="4076640"/>
            <a:ext cx="135720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Asiantuntijan motivaation tukeminen</a:t>
            </a:r>
            <a:endParaRPr b="0" lang="en-US" sz="800" spc="-1" strike="noStrike">
              <a:solidFill>
                <a:srgbClr val="000000"/>
              </a:solidFill>
              <a:latin typeface="Arial"/>
            </a:endParaRPr>
          </a:p>
        </p:txBody>
      </p:sp>
      <p:sp>
        <p:nvSpPr>
          <p:cNvPr id="78" name="Suorakulmio 75"/>
          <p:cNvSpPr/>
          <p:nvPr/>
        </p:nvSpPr>
        <p:spPr>
          <a:xfrm>
            <a:off x="6372360" y="907920"/>
            <a:ext cx="2592360" cy="142920"/>
          </a:xfrm>
          <a:prstGeom prst="rect">
            <a:avLst/>
          </a:prstGeom>
          <a:solidFill>
            <a:srgbClr val="d1337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Calibri"/>
              </a:rPr>
              <a:t>Johtopäätökset</a:t>
            </a:r>
            <a:endParaRPr b="0" lang="en-US" sz="1000" spc="-1" strike="noStrike">
              <a:solidFill>
                <a:srgbClr val="000000"/>
              </a:solidFill>
              <a:latin typeface="Arial"/>
            </a:endParaRPr>
          </a:p>
        </p:txBody>
      </p:sp>
      <p:grpSp>
        <p:nvGrpSpPr>
          <p:cNvPr id="79" name="Ryhmä 82"/>
          <p:cNvGrpSpPr/>
          <p:nvPr/>
        </p:nvGrpSpPr>
        <p:grpSpPr>
          <a:xfrm>
            <a:off x="682560" y="4983840"/>
            <a:ext cx="1801800" cy="1146960"/>
            <a:chOff x="682560" y="4983840"/>
            <a:chExt cx="1801800" cy="1146960"/>
          </a:xfrm>
        </p:grpSpPr>
        <p:grpSp>
          <p:nvGrpSpPr>
            <p:cNvPr id="80" name="Ryhmä 61"/>
            <p:cNvGrpSpPr/>
            <p:nvPr/>
          </p:nvGrpSpPr>
          <p:grpSpPr>
            <a:xfrm>
              <a:off x="682560" y="4983840"/>
              <a:ext cx="1801800" cy="1146960"/>
              <a:chOff x="682560" y="4983840"/>
              <a:chExt cx="1801800" cy="1146960"/>
            </a:xfrm>
          </p:grpSpPr>
          <p:sp>
            <p:nvSpPr>
              <p:cNvPr id="81" name="Pyöristetty suorakulmio 62"/>
              <p:cNvSpPr/>
              <p:nvPr/>
            </p:nvSpPr>
            <p:spPr>
              <a:xfrm>
                <a:off x="892080" y="508464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Tue</a:t>
                </a:r>
                <a:endParaRPr b="0" lang="en-US" sz="800" spc="-1" strike="noStrike">
                  <a:solidFill>
                    <a:srgbClr val="000000"/>
                  </a:solidFill>
                  <a:latin typeface="Arial"/>
                </a:endParaRPr>
              </a:p>
            </p:txBody>
          </p:sp>
          <p:sp>
            <p:nvSpPr>
              <p:cNvPr id="82" name="Pyöristetty suorakulmio 63"/>
              <p:cNvSpPr/>
              <p:nvPr/>
            </p:nvSpPr>
            <p:spPr>
              <a:xfrm>
                <a:off x="1722240" y="508464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Delegoi</a:t>
                </a:r>
                <a:endParaRPr b="0" lang="en-US" sz="800" spc="-1" strike="noStrike">
                  <a:solidFill>
                    <a:srgbClr val="000000"/>
                  </a:solidFill>
                  <a:latin typeface="Arial"/>
                </a:endParaRPr>
              </a:p>
            </p:txBody>
          </p:sp>
          <p:sp>
            <p:nvSpPr>
              <p:cNvPr id="83" name="Pyöristetty suorakulmio 64"/>
              <p:cNvSpPr/>
              <p:nvPr/>
            </p:nvSpPr>
            <p:spPr>
              <a:xfrm>
                <a:off x="892080" y="555948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Ohjaa</a:t>
                </a:r>
                <a:endParaRPr b="0" lang="en-US" sz="800" spc="-1" strike="noStrike">
                  <a:solidFill>
                    <a:srgbClr val="000000"/>
                  </a:solidFill>
                  <a:latin typeface="Arial"/>
                </a:endParaRPr>
              </a:p>
            </p:txBody>
          </p:sp>
          <p:sp>
            <p:nvSpPr>
              <p:cNvPr id="84" name="Pyöristetty suorakulmio 65"/>
              <p:cNvSpPr/>
              <p:nvPr/>
            </p:nvSpPr>
            <p:spPr>
              <a:xfrm>
                <a:off x="1722240" y="5559480"/>
                <a:ext cx="762120" cy="355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ffffff"/>
                    </a:solidFill>
                    <a:latin typeface="Calibri"/>
                  </a:rPr>
                  <a:t>Innosta</a:t>
                </a:r>
                <a:endParaRPr b="0" lang="en-US" sz="800" spc="-1" strike="noStrike">
                  <a:solidFill>
                    <a:srgbClr val="000000"/>
                  </a:solidFill>
                  <a:latin typeface="Arial"/>
                </a:endParaRPr>
              </a:p>
            </p:txBody>
          </p:sp>
          <p:sp>
            <p:nvSpPr>
              <p:cNvPr id="85" name="Tekstikehys 66"/>
              <p:cNvSpPr/>
              <p:nvPr/>
            </p:nvSpPr>
            <p:spPr>
              <a:xfrm rot="16200000">
                <a:off x="318960" y="5347080"/>
                <a:ext cx="942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Motivaatio   +</a:t>
                </a:r>
                <a:endParaRPr b="0" lang="en-US" sz="800" spc="-1" strike="noStrike">
                  <a:solidFill>
                    <a:srgbClr val="000000"/>
                  </a:solidFill>
                  <a:latin typeface="Arial"/>
                </a:endParaRPr>
              </a:p>
            </p:txBody>
          </p:sp>
          <p:sp>
            <p:nvSpPr>
              <p:cNvPr id="86" name="Tekstikehys 67"/>
              <p:cNvSpPr/>
              <p:nvPr/>
            </p:nvSpPr>
            <p:spPr>
              <a:xfrm>
                <a:off x="1168200" y="5915160"/>
                <a:ext cx="110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r>
                  <a:rPr b="0" lang="fi-FI" sz="800" spc="-1" strike="noStrike">
                    <a:solidFill>
                      <a:srgbClr val="000000"/>
                    </a:solidFill>
                    <a:latin typeface="Arial"/>
                  </a:rPr>
                  <a:t>-     Kyvyt    +</a:t>
                </a:r>
                <a:endParaRPr b="0" lang="en-US" sz="800" spc="-1" strike="noStrike">
                  <a:solidFill>
                    <a:srgbClr val="000000"/>
                  </a:solidFill>
                  <a:latin typeface="Arial"/>
                </a:endParaRPr>
              </a:p>
            </p:txBody>
          </p:sp>
        </p:grpSp>
        <p:sp>
          <p:nvSpPr>
            <p:cNvPr id="87" name="Kaarinuoli alas 68"/>
            <p:cNvSpPr/>
            <p:nvPr/>
          </p:nvSpPr>
          <p:spPr>
            <a:xfrm rot="19941600">
              <a:off x="1169640" y="5281200"/>
              <a:ext cx="739800" cy="160200"/>
            </a:xfrm>
            <a:custGeom>
              <a:avLst/>
              <a:gdLst>
                <a:gd name="textAreaLeft" fmla="*/ 167400 w 739800"/>
                <a:gd name="textAreaRight" fmla="*/ 549000 w 739800"/>
                <a:gd name="textAreaTop" fmla="*/ 21240 h 160200"/>
                <a:gd name="textAreaBottom" fmla="*/ 138960 h 160200"/>
              </a:gdLst>
              <a:ahLst/>
              <a:rect l="textAreaLeft" t="textAreaTop" r="textAreaRight" b="textAreaBottom"/>
              <a:pathLst>
                <a:path w="21600" h="21600">
                  <a:moveTo>
                    <a:pt x="0" y="21600"/>
                  </a:moveTo>
                  <a:arcTo wR="9775" hR="21600" stAng="10800000" swAng="5400000"/>
                  <a:lnTo>
                    <a:pt x="11141" y="0"/>
                  </a:lnTo>
                  <a:arcTo wR="9775" hR="21600" stAng="-5400000" swAng="3617593"/>
                  <a:lnTo>
                    <a:pt x="21290" y="16200"/>
                  </a:lnTo>
                  <a:lnTo>
                    <a:pt x="20233" y="21600"/>
                  </a:lnTo>
                  <a:lnTo>
                    <a:pt x="18556" y="16200"/>
                  </a:lnTo>
                  <a:lnTo>
                    <a:pt x="19240" y="16200"/>
                  </a:lnTo>
                  <a:arcTo wR="9775" hR="21600" stAng="-1782407" swAng="-3508660"/>
                  <a:lnTo>
                    <a:pt x="10458" y="53"/>
                  </a:lnTo>
                  <a:arcTo wR="9775" hR="21600" stAng="-5508933" swAng="-5291067"/>
                  <a:close/>
                </a:path>
                <a:path fill="darkenLess" w="21600" h="21600">
                  <a:moveTo>
                    <a:pt x="0" y="21600"/>
                  </a:moveTo>
                  <a:arcTo wR="9775" hR="21600" stAng="10800000" swAng="5400000"/>
                  <a:lnTo>
                    <a:pt x="9775" y="0"/>
                  </a:lnTo>
                  <a:arcTo wR="9775" hR="21600" stAng="-5400000" swAng="108933"/>
                  <a:lnTo>
                    <a:pt x="10458" y="53"/>
                  </a:lnTo>
                  <a:arcTo wR="9775" hR="21600" stAng="-5508933" swAng="-5291067"/>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Kaarinuoli alas 69"/>
            <p:cNvSpPr/>
            <p:nvPr/>
          </p:nvSpPr>
          <p:spPr>
            <a:xfrm flipV="1" rot="19942200">
              <a:off x="1369800" y="5520600"/>
              <a:ext cx="739800" cy="131760"/>
            </a:xfrm>
            <a:custGeom>
              <a:avLst/>
              <a:gdLst>
                <a:gd name="textAreaLeft" fmla="*/ 170640 w 739800"/>
                <a:gd name="textAreaRight" fmla="*/ 550800 w 739800"/>
                <a:gd name="textAreaTop" fmla="*/ 17640 h 131760"/>
                <a:gd name="textAreaBottom" fmla="*/ 114120 h 131760"/>
              </a:gdLst>
              <a:ahLst/>
              <a:rect l="textAreaLeft" t="textAreaTop" r="textAreaRight" b="textAreaBottom"/>
              <a:pathLst>
                <a:path w="21600" h="21600">
                  <a:moveTo>
                    <a:pt x="0" y="21600"/>
                  </a:moveTo>
                  <a:arcTo wR="9968" hR="21600" stAng="10800000" swAng="5400000"/>
                  <a:lnTo>
                    <a:pt x="11091" y="0"/>
                  </a:lnTo>
                  <a:arcTo wR="9968" hR="21600" stAng="-5400000" swAng="3908839"/>
                  <a:lnTo>
                    <a:pt x="21380" y="17085"/>
                  </a:lnTo>
                  <a:lnTo>
                    <a:pt x="20498" y="21600"/>
                  </a:lnTo>
                  <a:lnTo>
                    <a:pt x="19175" y="17085"/>
                  </a:lnTo>
                  <a:lnTo>
                    <a:pt x="19716" y="17085"/>
                  </a:lnTo>
                  <a:arcTo wR="9968" hR="21600" stAng="-1491161" swAng="-3819351"/>
                  <a:lnTo>
                    <a:pt x="10530" y="34"/>
                  </a:lnTo>
                  <a:arcTo wR="9968" hR="21600" stAng="-5489487" swAng="-5310513"/>
                  <a:close/>
                </a:path>
                <a:path fill="darkenLess" w="21600" h="21600">
                  <a:moveTo>
                    <a:pt x="0" y="21600"/>
                  </a:moveTo>
                  <a:arcTo wR="9968" hR="21600" stAng="10800000" swAng="5400000"/>
                  <a:lnTo>
                    <a:pt x="9968" y="0"/>
                  </a:lnTo>
                  <a:arcTo wR="9968" hR="21600" stAng="-5400000" swAng="89487"/>
                  <a:lnTo>
                    <a:pt x="10530" y="34"/>
                  </a:lnTo>
                  <a:arcTo wR="9968" hR="21600" stAng="-5489487" swAng="-5310513"/>
                  <a:close/>
                </a:path>
              </a:pathLst>
            </a:custGeom>
            <a:solidFill>
              <a:srgbClr val="ff0000"/>
            </a:solidFill>
            <a:ln w="25560">
              <a:solidFill>
                <a:srgbClr val="c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9" name="Picture 73" descr="EB"/>
          <p:cNvPicPr/>
          <p:nvPr/>
        </p:nvPicPr>
        <p:blipFill>
          <a:blip r:embed="rId2"/>
          <a:stretch/>
        </p:blipFill>
        <p:spPr>
          <a:xfrm>
            <a:off x="8459640" y="254160"/>
            <a:ext cx="339840" cy="322200"/>
          </a:xfrm>
          <a:prstGeom prst="rect">
            <a:avLst/>
          </a:prstGeom>
          <a:ln w="0">
            <a:noFill/>
          </a:ln>
        </p:spPr>
      </p:pic>
      <p:sp>
        <p:nvSpPr>
          <p:cNvPr id="90" name="AutoShape 7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7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7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kstikehys 73"/>
          <p:cNvSpPr/>
          <p:nvPr/>
        </p:nvSpPr>
        <p:spPr>
          <a:xfrm>
            <a:off x="7667640" y="33336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7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78" descr=""/>
          <p:cNvPicPr/>
          <p:nvPr/>
        </p:nvPicPr>
        <p:blipFill>
          <a:blip r:embed="rId3"/>
          <a:stretch/>
        </p:blipFill>
        <p:spPr>
          <a:xfrm>
            <a:off x="7740720" y="189000"/>
            <a:ext cx="538200" cy="588960"/>
          </a:xfrm>
          <a:prstGeom prst="rect">
            <a:avLst/>
          </a:prstGeom>
          <a:ln w="0">
            <a:noFill/>
          </a:ln>
        </p:spPr>
      </p:pic>
      <p:pic>
        <p:nvPicPr>
          <p:cNvPr id="96" name="Picture 79" descr=""/>
          <p:cNvPicPr/>
          <p:nvPr/>
        </p:nvPicPr>
        <p:blipFill>
          <a:blip r:embed="rId4"/>
          <a:stretch/>
        </p:blipFill>
        <p:spPr>
          <a:xfrm>
            <a:off x="179280" y="212760"/>
            <a:ext cx="1506600" cy="738000"/>
          </a:xfrm>
          <a:prstGeom prst="rect">
            <a:avLst/>
          </a:prstGeom>
          <a:ln w="0">
            <a:noFill/>
          </a:ln>
        </p:spPr>
      </p:pic>
      <p:sp>
        <p:nvSpPr>
          <p:cNvPr id="97" name="Tekstikehys 81"/>
          <p:cNvSpPr/>
          <p:nvPr/>
        </p:nvSpPr>
        <p:spPr>
          <a:xfrm>
            <a:off x="6443640" y="1125360"/>
            <a:ext cx="2448000" cy="282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Mahdollisuus omasta työstä saatavaan säännölliseen palautteeseen sekä omassa työyhteisössä koetut yhteisöllisyyden tunteet ovat asiantuntijan sisäisen motivaation tärkeitä tukielementtejä. Yhteisöllisyyden ja ryhmään kuulumisen tunnetta voidaan vahvistaa säännöllisillä esimiehen tai projektipäällikön ja asiantuntijoiden yhteyksillä, joissa on mahdollista saada ja antaa palautetta, kertoa kuulumiset ja päivittää työtilanne.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 spc="-1" strike="noStrike">
                <a:solidFill>
                  <a:srgbClr val="000000"/>
                </a:solidFill>
                <a:latin typeface="Calibri"/>
              </a:rPr>
              <a:t>Virallisten tiimipalavereiden lisäksi on hyvä tarjota työntekijöille esimerkiksi kerran viikossa vapaamuotoinen mahdollisuus kohdata fyysisesti kaukanakin olevat esimies, projektipäällikkö tai kollegat. Esimerkiksi LiveMeeting-työkalu tarjoaa tähän sähköisen tutun ja helpon ympäristön kohdeorganisaation asiantuntijoille. Säännöllisillä virtuaalisillakin tapaamisilla voidaan tarjota ympäristö mm. palautteelle, huomioimiselle, vertaistuelle, hiljaisen tiedon välittämiselle ja ideoiden synnyttämiselle.</a:t>
            </a:r>
            <a:br>
              <a:rPr sz="500"/>
            </a:br>
            <a:br>
              <a:rPr sz="500"/>
            </a:br>
            <a:r>
              <a:rPr b="1" lang="fi-FI" sz="500" spc="-1" strike="noStrike">
                <a:solidFill>
                  <a:srgbClr val="000000"/>
                </a:solidFill>
                <a:latin typeface="Calibri"/>
              </a:rPr>
              <a:t>Ohjeet esimiehelle ja projektipäällikölle asiantuntijan motivaation tukemiseen:</a:t>
            </a:r>
            <a:r>
              <a:rPr b="0" lang="fi-FI" sz="500" spc="-1" strike="noStrike">
                <a:solidFill>
                  <a:srgbClr val="000000"/>
                </a:solidFill>
                <a:latin typeface="Calibri"/>
              </a:rPr>
              <a:t> </a:t>
            </a:r>
            <a:br>
              <a:rPr sz="500"/>
            </a:br>
            <a:r>
              <a:rPr b="0" lang="fi-FI" sz="500" spc="-1" strike="noStrike">
                <a:solidFill>
                  <a:srgbClr val="000000"/>
                </a:solidFill>
                <a:latin typeface="Calibri"/>
              </a:rPr>
              <a:t>(Kuva 3)</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Tunne yksilölliset motivaatiotekijät.</a:t>
            </a:r>
            <a:r>
              <a:rPr b="0" lang="fi-FI" sz="500" spc="-1" strike="noStrike">
                <a:solidFill>
                  <a:srgbClr val="000000"/>
                </a:solidFill>
                <a:latin typeface="Calibri"/>
              </a:rPr>
              <a:t> Esimiehen/projektipäällikön on hyvä tuntea ne tekijät, joista motivaatio syntyy ja pyrkiä tunnistamaan ja ymmärtämään näitä tekijöitä tiiminsä jäsenten toiminnassa. Esimies/projektipäällikkö tukee asiantuntijan motivaatiota parhaiten hoitamalla oman roolinsa motivoituneesti ja huomioimalla erityisesti seuraavat  asiat:</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Osallista ja valtuuta - delegoi</a:t>
            </a:r>
            <a:br>
              <a:rPr sz="500"/>
            </a:br>
            <a:r>
              <a:rPr b="0" lang="fi-FI" sz="500" spc="-1" strike="noStrike">
                <a:solidFill>
                  <a:srgbClr val="000000"/>
                </a:solidFill>
                <a:latin typeface="Calibri"/>
              </a:rPr>
              <a:t>Esimiehen/projektipäällikön tulee luoda tilanteita, joissa asiantuntijat pääsevät vaikuttamaan asioihin, tekemään päätöksiä ja kantamaan vastuuta. Välitavoitteet mahdollistavat oikea-aikaisen palautteen antamisen.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Rakenna ja ylläpidä yhteisöllisyyttä</a:t>
            </a:r>
            <a:br>
              <a:rPr sz="500"/>
            </a:br>
            <a:r>
              <a:rPr b="0" lang="fi-FI" sz="500" spc="-1" strike="noStrike">
                <a:solidFill>
                  <a:srgbClr val="000000"/>
                </a:solidFill>
                <a:latin typeface="Calibri"/>
              </a:rPr>
              <a:t>Esimiehen/projektipäällikön tulee mahdollistaa tilanteita ja ympäristöjä, joissa yhteisöllisyyden tunne tiimin tai ryhmän sisällä syntyy ja säilyy.</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Luo haasteita</a:t>
            </a:r>
            <a:br>
              <a:rPr sz="500"/>
            </a:br>
            <a:r>
              <a:rPr b="0" lang="fi-FI" sz="500" spc="-1" strike="noStrike">
                <a:solidFill>
                  <a:srgbClr val="000000"/>
                </a:solidFill>
                <a:latin typeface="Calibri"/>
              </a:rPr>
              <a:t>Esimiehen/projektipäällikön tulee tukea asiantuntijoita etenkin haasteellisissa tehtävissä niin, että epäonnistumisen pelko ei estä kehittymistä.</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 spc="-1" strike="noStrike">
                <a:solidFill>
                  <a:srgbClr val="000000"/>
                </a:solidFill>
                <a:latin typeface="Calibri"/>
              </a:rPr>
              <a:t>Palkitse</a:t>
            </a:r>
            <a:br>
              <a:rPr sz="500"/>
            </a:br>
            <a:r>
              <a:rPr b="0" lang="fi-FI" sz="500" spc="-1" strike="noStrike">
                <a:solidFill>
                  <a:srgbClr val="000000"/>
                </a:solidFill>
                <a:latin typeface="Calibri"/>
              </a:rPr>
              <a:t>Työntekijöitä tulee huomioida säännöllisesti. Esimiehen/projektipäällikön pitää olla kiinnostunut asiantuntijoiden tekemisistä ja antaa palautetta säännöllisesti. Kukaan ei elä kiitoksilla, mutta niitä ei tule säästellä. Asiantuntija kaipaa myös valmennusta ja koulutusta. (Wiskari, 2009)</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6:09:07Z</dcterms:created>
  <dc:creator>sirpaerkkilahakkinen</dc:creator>
  <dc:description/>
  <dc:language>en-US</dc:language>
  <cp:lastModifiedBy>sirpaerkkilahakkinen</cp:lastModifiedBy>
  <dcterms:modified xsi:type="dcterms:W3CDTF">2010-08-30T06:04:34Z</dcterms:modified>
  <cp:revision>76</cp:revision>
  <dc:subject/>
  <dc:title>Dia 1</dc:title>
</cp:coreProperties>
</file>